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265D-E970-4E32-80AD-B9CB2D1B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E6D4-CE2A-46AF-9488-90C61C46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90D4-4875-402D-BF94-DC0EB6B9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BAFD-CFD3-495F-8BE1-DC7E6D65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18B8-56E1-4E55-AF9D-D7585F1F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5C9D-8DCE-4FDA-8EF9-AFDED908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2315-FEE9-41F1-99C7-57DFE2C6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0934-3E89-4A0C-895C-6C38522A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D5AE-CFD5-4BE2-B845-43294412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7B34-265D-4A1B-AF0E-CE16BC97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506B-352C-4D71-A1A1-58D06F4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FCBE-3B98-446C-944E-22E94F92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B73B-F796-4397-849E-DAD0695D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549F-2F74-4BFE-B8C4-DE7A9EB1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42EC-D10F-4A6E-B05A-E122E167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7C83-C8B6-4290-9A03-A0D65B1D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3B45-3675-4B21-B999-27CB04A6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2A24-BBE6-4C70-A22E-0AA2382F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2DD0-18BC-45DF-A42A-C060A53C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6402-069A-41EA-A614-0102C720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EADF-0B75-4C58-B243-30B34715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FEB4-628C-4673-AA3A-3E7D2163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B94B-6964-4190-9925-EB2A504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1B37E-17CB-4211-B707-9F479914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5E86-550F-45B2-8C4C-AB872CC6C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686C-9EAA-4119-8475-707B59866D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. 2 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difference between an atom, element and compou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3 main components of an atom?  What are their charg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type of bond is found 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Cl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4800600" y="251460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ymb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2" name="Group 25"/>
          <p:cNvGrpSpPr/>
          <p:nvPr/>
        </p:nvGrpSpPr>
        <p:grpSpPr>
          <a:xfrm>
            <a:off x="685800" y="1295280"/>
            <a:ext cx="2666880" cy="3200400"/>
            <a:chOff x="685800" y="1295280"/>
            <a:chExt cx="2666880" cy="3200400"/>
          </a:xfrm>
        </p:grpSpPr>
        <p:sp>
          <p:nvSpPr>
            <p:cNvPr id="133" name="Rectangle 5"/>
            <p:cNvSpPr/>
            <p:nvPr/>
          </p:nvSpPr>
          <p:spPr>
            <a:xfrm>
              <a:off x="685800" y="1295280"/>
              <a:ext cx="2666880" cy="3200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4" name="Group 24"/>
            <p:cNvGrpSpPr/>
            <p:nvPr/>
          </p:nvGrpSpPr>
          <p:grpSpPr>
            <a:xfrm>
              <a:off x="1013760" y="2133360"/>
              <a:ext cx="1729440" cy="1676520"/>
              <a:chOff x="1013760" y="2133360"/>
              <a:chExt cx="1729440" cy="1676520"/>
            </a:xfrm>
          </p:grpSpPr>
          <p:sp>
            <p:nvSpPr>
              <p:cNvPr id="135" name="Text Box 7"/>
              <p:cNvSpPr/>
              <p:nvPr/>
            </p:nvSpPr>
            <p:spPr>
              <a:xfrm>
                <a:off x="1013760" y="2133360"/>
                <a:ext cx="815040" cy="167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514"/>
                    </a:solidFill>
                    <a:latin typeface="Arial"/>
                    <a:ea typeface="Arial"/>
                  </a:rPr>
                  <a:t>4</a:t>
                </a:r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514"/>
                    </a:solidFill>
                    <a:latin typeface="Arial"/>
                    <a:ea typeface="Arial"/>
                  </a:rPr>
                  <a:t>2</a:t>
                </a:r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6" name="Text Box 6"/>
              <p:cNvSpPr/>
              <p:nvPr/>
            </p:nvSpPr>
            <p:spPr>
              <a:xfrm>
                <a:off x="1548720" y="2361960"/>
                <a:ext cx="119448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514"/>
                    </a:solidFill>
                    <a:latin typeface="Arial"/>
                    <a:ea typeface="Arial"/>
                  </a:rPr>
                  <a:t>He</a:t>
                </a:r>
                <a:endParaRPr b="0" lang="en-US" sz="6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cxnSp>
        <p:nvCxnSpPr>
          <p:cNvPr id="137" name="AutoShape 8"/>
          <p:cNvCxnSpPr/>
          <p:nvPr/>
        </p:nvCxnSpPr>
        <p:spPr>
          <a:xfrm flipV="1">
            <a:off x="1523880" y="1752120"/>
            <a:ext cx="2439000" cy="6105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cxnSp>
        <p:nvCxnSpPr>
          <p:cNvPr id="138" name="AutoShape 10"/>
          <p:cNvCxnSpPr>
            <a:stCxn id="136" idx="3"/>
            <a:endCxn id="131" idx="1"/>
          </p:cNvCxnSpPr>
          <p:nvPr/>
        </p:nvCxnSpPr>
        <p:spPr>
          <a:xfrm flipV="1">
            <a:off x="2742840" y="2814120"/>
            <a:ext cx="2057760" cy="439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stealth" w="med"/>
          </a:ln>
        </p:spPr>
      </p:cxnSp>
      <p:cxnSp>
        <p:nvCxnSpPr>
          <p:cNvPr id="139" name="AutoShape 11"/>
          <p:cNvCxnSpPr>
            <a:endCxn id="140" idx="1"/>
          </p:cNvCxnSpPr>
          <p:nvPr/>
        </p:nvCxnSpPr>
        <p:spPr>
          <a:xfrm>
            <a:off x="1600200" y="3429000"/>
            <a:ext cx="2363040" cy="8388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sp>
        <p:nvSpPr>
          <p:cNvPr id="140" name="Text Box 12"/>
          <p:cNvSpPr/>
          <p:nvPr/>
        </p:nvSpPr>
        <p:spPr>
          <a:xfrm>
            <a:off x="3962520" y="3581280"/>
            <a:ext cx="4929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tomic # (protons or electron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733920" y="1143000"/>
            <a:ext cx="5715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ass # (protons + neutron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060800" y="2903400"/>
            <a:ext cx="2760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ymb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685800" y="1295280"/>
            <a:ext cx="2666880" cy="3505320"/>
            <a:chOff x="685800" y="1295280"/>
            <a:chExt cx="2666880" cy="3505320"/>
          </a:xfrm>
        </p:grpSpPr>
        <p:sp>
          <p:nvSpPr>
            <p:cNvPr id="144" name="Rectangle 5"/>
            <p:cNvSpPr/>
            <p:nvPr/>
          </p:nvSpPr>
          <p:spPr>
            <a:xfrm>
              <a:off x="685800" y="1295280"/>
              <a:ext cx="2666880" cy="3200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45" name="Group 24"/>
            <p:cNvGrpSpPr/>
            <p:nvPr/>
          </p:nvGrpSpPr>
          <p:grpSpPr>
            <a:xfrm>
              <a:off x="1292040" y="1490040"/>
              <a:ext cx="1973160" cy="3310560"/>
              <a:chOff x="1292040" y="1490040"/>
              <a:chExt cx="1973160" cy="3310560"/>
            </a:xfrm>
          </p:grpSpPr>
          <p:sp>
            <p:nvSpPr>
              <p:cNvPr id="146" name="Text Box 6"/>
              <p:cNvSpPr/>
              <p:nvPr/>
            </p:nvSpPr>
            <p:spPr>
              <a:xfrm>
                <a:off x="1292040" y="1490040"/>
                <a:ext cx="1194120" cy="331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514"/>
                    </a:solidFill>
                    <a:latin typeface="Calibri"/>
                  </a:rPr>
                  <a:t>2</a:t>
                </a:r>
                <a:endParaRPr b="0" lang="en-US" sz="5400" spc="-1" strike="noStrike">
                  <a:solidFill>
                    <a:srgbClr val="ffffff"/>
                  </a:solidFill>
                  <a:latin typeface="Garamond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514"/>
                    </a:solidFill>
                    <a:latin typeface="Calibri"/>
                  </a:rPr>
                  <a:t>He</a:t>
                </a:r>
                <a:endParaRPr b="0" lang="en-US" sz="5400" spc="-1" strike="noStrike">
                  <a:solidFill>
                    <a:srgbClr val="ffffff"/>
                  </a:solidFill>
                  <a:latin typeface="Garamond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514"/>
                    </a:solidFill>
                    <a:latin typeface="Calibri"/>
                  </a:rPr>
                  <a:t>4</a:t>
                </a:r>
                <a:endParaRPr b="0" lang="en-US" sz="5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7" name="Text Box 7"/>
              <p:cNvSpPr/>
              <p:nvPr/>
            </p:nvSpPr>
            <p:spPr>
              <a:xfrm>
                <a:off x="2450160" y="2169360"/>
                <a:ext cx="815040" cy="88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514"/>
                    </a:solidFill>
                    <a:latin typeface="Calibri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cxnSp>
        <p:nvCxnSpPr>
          <p:cNvPr id="148" name="AutoShape 8"/>
          <p:cNvCxnSpPr/>
          <p:nvPr/>
        </p:nvCxnSpPr>
        <p:spPr>
          <a:xfrm flipH="1">
            <a:off x="2089080" y="1980720"/>
            <a:ext cx="195300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cxnSp>
        <p:nvCxnSpPr>
          <p:cNvPr id="149" name="AutoShape 9"/>
          <p:cNvCxnSpPr/>
          <p:nvPr/>
        </p:nvCxnSpPr>
        <p:spPr>
          <a:xfrm flipH="1">
            <a:off x="2941200" y="2575080"/>
            <a:ext cx="1029600" cy="21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cxnSp>
        <p:nvCxnSpPr>
          <p:cNvPr id="150" name="AutoShape 10"/>
          <p:cNvCxnSpPr/>
          <p:nvPr/>
        </p:nvCxnSpPr>
        <p:spPr>
          <a:xfrm flipH="1" flipV="1">
            <a:off x="2283840" y="2940840"/>
            <a:ext cx="1678680" cy="2595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cxnSp>
        <p:nvCxnSpPr>
          <p:cNvPr id="151" name="AutoShape 11"/>
          <p:cNvCxnSpPr/>
          <p:nvPr/>
        </p:nvCxnSpPr>
        <p:spPr>
          <a:xfrm flipH="1">
            <a:off x="2129760" y="3841560"/>
            <a:ext cx="18406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sp>
        <p:nvSpPr>
          <p:cNvPr id="152" name="Text Box 12"/>
          <p:cNvSpPr/>
          <p:nvPr/>
        </p:nvSpPr>
        <p:spPr>
          <a:xfrm>
            <a:off x="4062240" y="1657440"/>
            <a:ext cx="49294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tomic # (never change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051440" y="2276640"/>
            <a:ext cx="38732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valence e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4059360" y="3511440"/>
            <a:ext cx="27604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ass #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4760" y="4694040"/>
            <a:ext cx="31255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tons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ns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utrons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553080" y="4694400"/>
            <a:ext cx="53352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f9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f9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f9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otop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#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utr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varies, but same # of prot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dioactive isotopes used as tracers (follow molecules, medical diagnosi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controlled exposure causes ha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165320" y="3854520"/>
            <a:ext cx="69879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I. Chemical Bo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rongest Bond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val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sharing of 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Pola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covalent bond between atoms that differ in electronegati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Nonpola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shared equally; eg.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3" descr="02_13PolarCovalentBonds-L.jpg"/>
          <p:cNvPicPr/>
          <p:nvPr/>
        </p:nvPicPr>
        <p:blipFill>
          <a:blip r:embed="rId1"/>
          <a:stretch/>
        </p:blipFill>
        <p:spPr>
          <a:xfrm>
            <a:off x="5029200" y="2895480"/>
            <a:ext cx="3176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I. Chemical Bo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rongest Bond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onic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2 ions (+/-) bond (givers/take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ffected by environment (eg. wat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3" descr="02_15_SodiumChloride-L.jpg"/>
          <p:cNvPicPr/>
          <p:nvPr/>
        </p:nvPicPr>
        <p:blipFill>
          <a:blip r:embed="rId1"/>
          <a:stretch/>
        </p:blipFill>
        <p:spPr>
          <a:xfrm>
            <a:off x="1752480" y="3581280"/>
            <a:ext cx="59436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eaker Bond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H of polar covalent molecule bonds to electronegative atom of other polar covalent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1" descr="02_16HydrogenBond-L.jpg"/>
          <p:cNvPicPr/>
          <p:nvPr/>
        </p:nvPicPr>
        <p:blipFill>
          <a:blip r:embed="rId1"/>
          <a:stretch/>
        </p:blipFill>
        <p:spPr>
          <a:xfrm>
            <a:off x="2590920" y="3124080"/>
            <a:ext cx="41148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eaker Bond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n der Waals Interact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slight, fleeting attractions  between atoms and molecules close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akest bo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g. gecko toe hairs + wall surf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3801960" cy="2357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" descr="02_UN01Gecko-L.jpg"/>
          <p:cNvPicPr/>
          <p:nvPr/>
        </p:nvPicPr>
        <p:blipFill>
          <a:blip r:embed="rId2"/>
          <a:stretch/>
        </p:blipFill>
        <p:spPr>
          <a:xfrm>
            <a:off x="7010280" y="2590920"/>
            <a:ext cx="12956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44792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val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on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ydrog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9424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ll important to li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Form cell’s molecu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Quick reactions/ respon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H bonds to other electronegative a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7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Strong 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Weaker bond (esp. in H</a:t>
                      </a:r>
                      <a:r>
                        <a:rPr b="0" lang="en-US" sz="24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Even weak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90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Made and broken by chemic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l bonds affect molecule’s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Garamond"/>
              </a:rPr>
              <a:t>SHAP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ffect molecule’s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Garamond"/>
              </a:rPr>
              <a:t>FUN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Title 5"/>
          <p:cNvSpPr/>
          <p:nvPr/>
        </p:nvSpPr>
        <p:spPr>
          <a:xfrm>
            <a:off x="685800" y="42670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30360" indent="-395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imilar shapes = mimic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1087560" indent="-3952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MS PGothic"/>
              </a:rPr>
              <a:t>morphine, heroin, opiates mimic endorphin (euphoria, relieve p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1" descr="02_18aMolecularMimic-L.jpg"/>
          <p:cNvPicPr/>
          <p:nvPr/>
        </p:nvPicPr>
        <p:blipFill>
          <a:blip r:embed="rId1"/>
          <a:stretch/>
        </p:blipFill>
        <p:spPr>
          <a:xfrm>
            <a:off x="380880" y="1905120"/>
            <a:ext cx="3695760" cy="2689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02_18bMolecularMimic-L.jpg"/>
          <p:cNvPicPr/>
          <p:nvPr/>
        </p:nvPicPr>
        <p:blipFill>
          <a:blip r:embed="rId2"/>
          <a:stretch/>
        </p:blipFill>
        <p:spPr>
          <a:xfrm>
            <a:off x="4489560" y="2057400"/>
            <a:ext cx="43495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ical Rea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acta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reactions are reversi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hemical equilibriu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point at which forward and reverse reactions offset one another exact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ctions still occurring, bu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o net chang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concentrations of reactants/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3581280" y="3276720"/>
            <a:ext cx="533880" cy="79560"/>
            <a:chOff x="3581280" y="3276720"/>
            <a:chExt cx="533880" cy="79560"/>
          </a:xfrm>
        </p:grpSpPr>
        <p:cxnSp>
          <p:nvCxnSpPr>
            <p:cNvPr id="180" name="Straight Arrow Connector 4"/>
            <p:cNvCxnSpPr/>
            <p:nvPr/>
          </p:nvCxnSpPr>
          <p:spPr>
            <a:xfrm>
              <a:off x="3581280" y="3276720"/>
              <a:ext cx="534240" cy="2160"/>
            </a:xfrm>
            <a:prstGeom prst="straightConnector1">
              <a:avLst/>
            </a:prstGeom>
            <a:ln w="1584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81" name="Straight Arrow Connector 6"/>
            <p:cNvCxnSpPr/>
            <p:nvPr/>
          </p:nvCxnSpPr>
          <p:spPr>
            <a:xfrm>
              <a:off x="3581280" y="3354480"/>
              <a:ext cx="534240" cy="2160"/>
            </a:xfrm>
            <a:prstGeom prst="straightConnector1">
              <a:avLst/>
            </a:prstGeom>
            <a:ln w="15840">
              <a:solidFill>
                <a:srgbClr val="ffffff"/>
              </a:solidFill>
              <a:miter/>
              <a:head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5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Chemical Context of Lif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ts &amp; the 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Duroia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Tre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Content Placeholder 5" descr="02_01DevilsGarden-L.jpg"/>
          <p:cNvPicPr/>
          <p:nvPr/>
        </p:nvPicPr>
        <p:blipFill>
          <a:blip r:embed="rId1"/>
          <a:stretch/>
        </p:blipFill>
        <p:spPr>
          <a:xfrm>
            <a:off x="1523880" y="1219320"/>
            <a:ext cx="63518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762120" y="5867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ts use formic acid to prevent other plants from growing so that the Duroia trees can serve as their hom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 Must Kn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ree subatomic particles and their signific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ypes of bonds, how they form, and their relative strength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. Matter vs. Ener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Matt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as mass &amp; takes up sp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ffected by gra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ists of elements and comp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nerg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es ma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tential, kine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ility to do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ver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ound, light, h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57200" y="2286000"/>
            <a:ext cx="830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4800600" y="1600200"/>
            <a:ext cx="0" cy="487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lem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re</a:t>
            </a:r>
            <a:r>
              <a:rPr b="1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ubst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n’t be broken down by </a:t>
            </a:r>
            <a:r>
              <a:rPr b="1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dinary</a:t>
            </a:r>
            <a:r>
              <a:rPr b="1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eans to another subst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. hydrogen (H), nitrogen (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ompoun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 or more different elements combined in a fixed rat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.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57200" y="2286000"/>
            <a:ext cx="830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800600" y="1600200"/>
            <a:ext cx="0" cy="487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33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3"/>
          <a:stretch/>
        </p:blipFill>
        <p:spPr>
          <a:xfrm>
            <a:off x="5105520" y="5029200"/>
            <a:ext cx="1600200" cy="115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4"/>
          <a:stretch/>
        </p:blipFill>
        <p:spPr>
          <a:xfrm>
            <a:off x="7238880" y="5105520"/>
            <a:ext cx="1703520" cy="101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02_03_CompoundProperties-L.jpg"/>
          <p:cNvPicPr/>
          <p:nvPr/>
        </p:nvPicPr>
        <p:blipFill>
          <a:blip r:embed="rId5"/>
          <a:stretch/>
        </p:blipFill>
        <p:spPr>
          <a:xfrm>
            <a:off x="2754360" y="0"/>
            <a:ext cx="3036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ments of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5 elem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15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96% : O, C, H,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15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~ 4% : P, S, Ca, K &amp; trace elements (ex: Fe, 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int: Remember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CHNO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02_T01ElementsInBody-L.jpg"/>
          <p:cNvPicPr/>
          <p:nvPr/>
        </p:nvPicPr>
        <p:blipFill>
          <a:blip r:embed="rId1"/>
          <a:stretch/>
        </p:blipFill>
        <p:spPr>
          <a:xfrm>
            <a:off x="1333440" y="127080"/>
            <a:ext cx="64612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Atomic Stru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5791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Atom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= smallest unit of matter that retains properties of an el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batomic particl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3592440"/>
          <a:ext cx="7772400" cy="3036960"/>
        </p:xfrm>
        <a:graphic>
          <a:graphicData uri="http://schemas.openxmlformats.org/drawingml/2006/table">
            <a:tbl>
              <a:tblPr/>
              <a:tblGrid>
                <a:gridCol w="1828800"/>
                <a:gridCol w="2438280"/>
                <a:gridCol w="1981440"/>
                <a:gridCol w="152388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lton or AMU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ar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gligi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1" descr="02_05HeliumModels-L.jpg"/>
          <p:cNvPicPr/>
          <p:nvPr/>
        </p:nvPicPr>
        <p:blipFill>
          <a:blip r:embed="rId1"/>
          <a:stretch/>
        </p:blipFill>
        <p:spPr>
          <a:xfrm>
            <a:off x="5791320" y="1447920"/>
            <a:ext cx="3119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3:22:27Z</dcterms:created>
  <dc:creator>Chris Nancy Chou</dc:creator>
  <dc:description/>
  <dc:language>en-US</dc:language>
  <cp:lastModifiedBy>Chris Nancy Chou</cp:lastModifiedBy>
  <dcterms:modified xsi:type="dcterms:W3CDTF">2012-09-04T04:29:30Z</dcterms:modified>
  <cp:revision>39</cp:revision>
  <dc:subject/>
  <dc:title>Warm-Up</dc:title>
</cp:coreProperties>
</file>